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B208-7D80-4267-8871-78507A17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C1A3-CB22-45D9-8527-5F91839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A98F-395B-4082-927E-8C144E79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F039-BF2A-4491-AD73-88B78699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BCF00-0D67-45EE-994F-E2EA4113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81C41-92E7-4651-9CA8-31378121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49BB-1E9D-4EC0-B0D9-230354FC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B9D10-49C8-403A-AFC5-2BABA4F3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D2972-7F1E-4B89-B360-E384AD31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E3C54-56EE-47EA-BFC9-ACA326FF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6FB9-A1BE-4BE2-873F-F4163FB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E1D0-1791-4D40-B1D0-F3164A18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CA249-6F6B-4516-A4B0-3B119062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B5717-761A-4762-A9DF-00F8434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6B988-2D98-4E9B-8786-E8B23940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4233E-7862-465B-9CD3-EC63A4F3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16595-92C6-42E9-AB5B-412C3DF5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DC9C2-9146-4EEE-B1F6-CD71BB91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5CDBE-C8F0-4586-AC5F-AD3C4F0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B36FC-F785-49E0-835B-7D702E0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30CFE-D691-4845-AB4B-EE5D2B2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DD39F-2E43-42F7-951F-DA00020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0012-B27E-4DCB-B999-62E4FE7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6A9D6-E16A-4E96-A05D-5EF7F2C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A9576-1D8C-4FFB-836F-03CDA2C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D9CFB-468E-4195-A820-8F40274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E1AEC-5E8D-463E-9B4B-5208DC9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A4622-AA72-40BB-8D3C-F7A32BC0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BF2EC-8CB8-4D69-AE2F-B1813F6D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A9728-D67C-4BDF-B1D6-4C7E6EC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E0809-E29C-4A6D-B7A5-8366E452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F1980-80FA-4369-868A-813A49F9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64796-0979-455F-9937-AF4B34C0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4D6A-F947-4EF5-A6F1-A9F0E2F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3B4B1-52BB-43E2-9E78-205015A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585DF-FA95-4B52-B90C-721B2DE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BE1FF-7867-453D-BA93-4D45991C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E0A05-F3F3-42ED-8882-D3805E2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1670D-D91A-476B-BE7E-EDBF923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7E0A8-CEDE-4DF4-90FE-288A833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5C301-1213-47D0-B383-DA0E1D1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5C60F-03BB-4B61-A7E1-1993ACEC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A3C0D-84AE-40C6-A0B7-87A45D0A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F7352-AD6C-41E6-81F7-2B16E345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B235-AD6E-48A0-8AC3-61362211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1BF55-B569-42E3-B062-484A9A7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0C422-AA63-4486-9610-54F42FF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5DFD8-BE2D-4B72-99D7-43A7922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699F8-151B-40D9-B668-16FCEF5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7B218-DC3B-45AB-B0F3-5AD90ABE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37A7C-E80D-40D0-95B4-FC15D42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87490-2BB2-4FEC-B625-E9C9FC5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272F3-EEE9-4E50-AC3A-2C6574E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63261-5573-4ED3-92F0-F46FB07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AD105-9E07-4194-93C9-ED0A21EE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5AE2-EBCE-4F42-8C0E-0FE9672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954F8-C3F3-4AEB-8767-E9ED0DD1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0AD42E-DEB9-4DED-BC15-4F44A5D6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9C281-DB08-4A5B-8F31-6784F28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62C8B-2015-4828-9DB0-EB3A0B6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BFC90B-9BB7-4154-86DA-937F68D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80E586-BC94-4935-B545-D2B75756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ACD52-6AD0-4951-A1A1-64E1B106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43D95-6204-4F6B-AD69-75905D3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216A0-E14C-429B-8F6F-F2166D2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3F50A-EC60-464F-ABC2-88CC0FB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B2E7-8AA6-470E-921F-D611F4C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D9ADC-249A-45AA-9799-9C01309B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FC0B8-FE4D-4B4F-8CC6-A3E0698E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00F2A-FBB1-4051-BDEF-3661B0F7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73C15-1AD3-4724-94C0-0B9E0906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8CB2B-7151-49B4-BAF2-E077C169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907C40-3ECC-4A66-9788-853C445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3D199-C9D5-4C6D-A0F0-BE1C5E5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DD67A-4F3F-4688-8711-EEABF14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CDEBC-06BD-49D5-847A-EA69974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898FE4-2097-4B32-9AE0-FB52530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E5A1-04B5-43CC-95F4-6B17D1E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2E3C1-59CA-476A-9328-49A4960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02494-87FC-49D7-BCC1-D09B9CF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138AC-F648-4CD6-AF70-AEA6571A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EC6C4-7B17-4856-864C-26342D8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DE3910-50B2-4F60-B527-D60F38D0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5B852-9DBA-4505-B4A7-411F7ACB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B3C40-0250-4AAD-B33E-6043329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CFF9D-4879-48E0-ACF3-B4C9EF0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65A0F9-3B80-4572-A14A-E05AB62B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54A1C-B70E-469A-97FC-3554B80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E371-6713-44DD-AE23-965FF0A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9C980A-C73A-4CB6-AA76-E1267A9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695BA-FB73-46CC-B3B4-D75BD46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3D91F-D161-4468-A30A-161DF78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476C8-2D7D-4900-881E-9ACB666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B283E-E39D-44B3-8D4A-12A7C63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018913-9EC2-4D3E-BB68-87C121C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04AEA-8D89-48B1-8BFF-C225CD04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DE5-919D-425C-B859-780C699B0301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6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D6B8-18FD-439B-B578-6133E35F02D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9934-C5C0-43B8-B8D5-EB10B0E9674F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0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6D9A-808E-440E-87A6-E89D2B9BCCF1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1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763-2DF1-4E54-997D-18479CB3F49E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1100-7FCA-4E6C-9EAF-5271721C1EEB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7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8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76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0278-DA69-48BA-84AD-FA97F50140B7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0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1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2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EEC2-8972-4427-BFB6-830F5EC28055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68686d"/>
                </a:solidFill>
                <a:latin typeface="Arial"/>
              </a:rPr>
              <a:t>Titel</a:t>
            </a:r>
            <a:endParaRPr b="0" lang="en-US" sz="6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Redner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Ort, Datum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0" name="Fußzeilenplatzhalter 3"/>
          <p:cNvSpPr/>
          <p:nvPr/>
        </p:nvSpPr>
        <p:spPr>
          <a:xfrm>
            <a:off x="685800" y="6453360"/>
            <a:ext cx="570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liennummernplatzhalter 4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4B6A-1517-4998-ACE9-375909BFB33A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44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796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5" name="Fußzeilenplatzhalter 4"/>
          <p:cNvSpPr/>
          <p:nvPr/>
        </p:nvSpPr>
        <p:spPr>
          <a:xfrm>
            <a:off x="685800" y="6453360"/>
            <a:ext cx="5334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liennummernplatzhalter 5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5626-3B11-406D-B0A0-C5EDDC12BA6C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0:20:22Z</dcterms:created>
  <dc:creator>r31dzoe</dc:creator>
  <dc:description/>
  <dc:language>en-US</dc:language>
  <cp:lastModifiedBy>ru39pox</cp:lastModifiedBy>
  <dcterms:modified xsi:type="dcterms:W3CDTF">2019-07-18T11:25:10Z</dcterms:modified>
  <cp:revision>27</cp:revision>
  <dc:subject/>
  <dc:title>PowerPoint-Präsentation</dc:title>
</cp:coreProperties>
</file>