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1429E-67A9-4A8C-9E64-4FA8228B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25F31-DC2E-4D05-8D1B-1BD5E5CE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212BC-5545-45E0-94D9-94BD5E4A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B3415-F25D-4937-9580-DA0DC342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562A8-2E79-46CF-9866-42B3C266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A2A0B-DD10-4B60-8B2C-7DC75D39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86B7F-0DE4-4E2D-B071-92EE2F62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AD9E4-7AFA-4C65-A5DA-E5196A6F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7EC30-6281-4A98-9A10-610B8401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F45A7-1243-4371-AC1C-58AB026D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4802D-D0A0-4EEB-BB21-1A099425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75392-38F5-4214-916E-CFB7F330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BAE27-47F0-497B-9D9A-EAD5B8EA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5E1C7-C43B-4F7D-BE9D-1388CA9C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EEAF8-4F1C-4DD5-8B3E-F1AE8BC3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43241-9E57-4278-9C57-8F073C12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4720A-1EA9-4549-8171-D010E227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F3A33B-231D-4853-BD51-388DEA89A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09D6C1-E758-4E93-852B-1BC65606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EF1839-64F2-4E04-B765-12FF7294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BABCCE-B008-48E2-92DA-E42DC6CD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040B19-5346-4670-8AD5-79F68562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1ACA1-1FAA-4E7E-99F3-73B80ED4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4AC04-40CC-4EB6-91CC-725F8AF2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B6AA60-138C-47D8-9149-80F8E0CC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358B67-2BEA-4921-95B9-0549266B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307D58-A61F-48CD-973F-074B968B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2D92D-6D7C-4479-B49A-92F811E2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72FFA-C5D0-4F51-ACFC-9ED60723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992105-D3D1-4736-BD51-6B93FC37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2370CE-BCF4-44CA-9548-675F6E17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40E22E-4DA9-4BD4-8CBD-CFFE2487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1BE49B-2C83-4F6A-A91A-30F1DFF2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038E1-CFE2-4944-8DFD-3F12F292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4327AE-99EA-4D1F-9409-F7BD6BDD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B75A76-74F6-4B8A-919E-51211222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FDEF80-D6CB-4080-B059-12636CD5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020EF4-FA05-4059-B7B7-FDC8F337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21E065-FA72-4823-8EAB-670C2ECB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919F77-D358-4DC9-8DF6-88BD9233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2018E1-45F3-4795-ACC9-32FED1FB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A0AC16-BAEC-4DFD-8E15-2353B943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92CC1E-9CB1-4B5E-908A-D44A2AEB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4803D3-6512-4507-8AE6-455778CD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73BF8-3CAE-4E6C-A73C-06B524C3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C7668A-4C6D-462F-AEF0-AE7BCBF6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CAB973-F92A-4513-B4B4-377233C5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C98761-844F-4AFF-9F91-C1B87A01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99E5B5-E984-4FEB-BDAA-EBE5B1E1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2A9D8D-1C2A-4DE6-942C-34517994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E43361-E93D-4058-8CFB-567AAF6C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41E815-169F-4F26-AB35-5E2FA609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021282-02A6-4340-9827-30813CED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1BD582-A20D-4042-9A87-40AD2BBC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112D83-A80D-40FA-92EC-DEDFE8BC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31B27-CBE0-47FC-A679-689C631A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A52D69-14F4-4467-9796-37A8CF8D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E91B56-B399-40AB-89A9-9CF09883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26538B-7933-496D-9573-D78BF722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1E7AB6-702A-4427-BBFF-0C4EFB09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792D9B-B38D-48DB-B2F9-01DC29BD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6F9D20-9DEA-4D45-BAB7-CFE3A8B3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2E3F4D-9310-4D4E-8D59-199B4C13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624770-82A4-43D0-97F0-C6002921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053B58-853B-485F-8586-DEEA5E41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5787CB-441D-4BAA-B1E1-92D998B9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D62CC-53CD-4B23-A492-06DE73A9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0C5CF4-7586-4818-8C86-A3458DD4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11F584-AFF1-4072-90B1-9FB93895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89194C-8F1F-4FE9-8276-F46B3E94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E32AF0-4833-4648-9071-4873A1D1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A2C29A-AC2D-4A75-BA3A-8315CF0D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3289DB-D33D-4F14-9C93-3AEDB0B8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9AD220-A6BE-42DC-8D4C-8058A0E5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9641CE-BD7A-4C1F-836C-D3121BFC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0FA291-9493-4925-9485-26AEF995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0B4573-A461-4F88-899C-BD4F231E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3605-9BAF-4FF1-9BBC-CC9CFC3F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295D88-5923-4FC8-8C32-C2104249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361850-40DE-459F-B5BF-6330413E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89AF69-6AC5-4A23-9871-D92B6B7D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C3B447-8E4F-4B34-9D3D-AB740ECF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399987-5000-4384-A1DE-B52626A8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50C522-F820-48C3-91B2-1D9F1B84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C72686-EB5F-4378-88DE-F00484AF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CDF378-E405-45C1-AED1-F8EA595E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9FD347-BF2E-4061-AFDA-85FD5F35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B5ADDC-624B-45EA-8E97-FDDDC8B4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3474E-4274-482F-BAA6-AEF5263B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627486-D21C-45BB-B7C7-78E093BF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5466EF-D63C-4E95-8EE7-6F0C1775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8FE142-E168-49B0-9549-135B92FF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ABB903-3245-4BA8-9E35-46B454E4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0A0BD2-F471-46DE-AB72-2744A502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CFEC75-FAC4-4196-A7E6-902C85E4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D74BC3-7793-4FBD-BC48-980ACDF7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2EA6-5CAE-4957-A9CD-E48D16E02940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6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47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48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0D11-4A65-4F7E-A050-1B2F1818DCB9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5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92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93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8458200" y="6524640"/>
            <a:ext cx="166680" cy="333360"/>
          </a:xfrm>
          <a:prstGeom prst="rect">
            <a:avLst/>
          </a:prstGeom>
          <a:solidFill>
            <a:srgbClr val="f58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7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8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D4FC-2524-4D9C-9A3A-70F3B7041760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dt" idx="9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138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139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8458200" y="6524640"/>
            <a:ext cx="166680" cy="333360"/>
          </a:xfrm>
          <a:prstGeom prst="rect">
            <a:avLst/>
          </a:prstGeom>
          <a:solidFill>
            <a:srgbClr val="f58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10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EE9C-9E6D-43F8-998A-303A68ED7376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dt" idx="11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184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185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8458200" y="6524640"/>
            <a:ext cx="166680" cy="333360"/>
          </a:xfrm>
          <a:prstGeom prst="rect">
            <a:avLst/>
          </a:prstGeom>
          <a:solidFill>
            <a:srgbClr val="f58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13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5172-7D4C-4F5F-A0DD-A17A4F23239A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dt" idx="14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5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230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231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8458200" y="6524640"/>
            <a:ext cx="166680" cy="333360"/>
          </a:xfrm>
          <a:prstGeom prst="rect">
            <a:avLst/>
          </a:prstGeom>
          <a:solidFill>
            <a:srgbClr val="f58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6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68AD-C903-4761-B1BE-1F3DDB15E502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dt" idx="17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8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276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277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8458200" y="6524640"/>
            <a:ext cx="166680" cy="333360"/>
          </a:xfrm>
          <a:prstGeom prst="rect">
            <a:avLst/>
          </a:prstGeom>
          <a:solidFill>
            <a:srgbClr val="f58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9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266F-AAD7-4D73-B7A1-19C2F18AAD68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dt" idx="20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ftr" idx="21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322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323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8458200" y="6524640"/>
            <a:ext cx="166680" cy="333360"/>
          </a:xfrm>
          <a:prstGeom prst="rect">
            <a:avLst/>
          </a:prstGeom>
          <a:solidFill>
            <a:srgbClr val="f58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Num" idx="22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4A6C-9850-4D77-B636-7569FBC042C7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dt" idx="23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24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030040"/>
            <a:ext cx="7772400" cy="21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68686d"/>
                </a:solidFill>
                <a:latin typeface="Arial"/>
              </a:rPr>
              <a:t>Titel</a:t>
            </a:r>
            <a:endParaRPr b="0" lang="en-US" sz="60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4436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8686d"/>
                </a:solidFill>
                <a:latin typeface="Arial"/>
              </a:rPr>
              <a:t>Redner</a:t>
            </a:r>
            <a:endParaRPr b="0" lang="en-US" sz="2400" spc="-1" strike="noStrike">
              <a:solidFill>
                <a:srgbClr val="68686d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8686d"/>
                </a:solidFill>
                <a:latin typeface="Arial"/>
              </a:rPr>
              <a:t>Ort, Datum</a:t>
            </a:r>
            <a:endParaRPr b="0" lang="en-US" sz="2400" spc="-1" strike="noStrike">
              <a:solidFill>
                <a:srgbClr val="68686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8686d"/>
                </a:solidFill>
                <a:latin typeface="Arial"/>
              </a:rPr>
              <a:t>Titel Folie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800" spc="-1" strike="noStrike">
              <a:solidFill>
                <a:srgbClr val="68686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868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400" spc="-1" strike="noStrike">
              <a:solidFill>
                <a:srgbClr val="68686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8686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0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70" name="Fußzeilenplatzhalter 3"/>
          <p:cNvSpPr/>
          <p:nvPr/>
        </p:nvSpPr>
        <p:spPr>
          <a:xfrm>
            <a:off x="685800" y="6453360"/>
            <a:ext cx="570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oliennummernplatzhalter 4"/>
          <p:cNvSpPr/>
          <p:nvPr/>
        </p:nvSpPr>
        <p:spPr>
          <a:xfrm>
            <a:off x="6553080" y="6489720"/>
            <a:ext cx="19051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B2B4-78B2-4AFE-A1E9-2D3333022561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8686d"/>
                </a:solidFill>
                <a:latin typeface="Arial"/>
              </a:rPr>
              <a:t>Titel Folie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85440" y="2997360"/>
            <a:ext cx="38098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800" spc="-1" strike="noStrike">
              <a:solidFill>
                <a:srgbClr val="68686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868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400" spc="-1" strike="noStrike">
              <a:solidFill>
                <a:srgbClr val="68686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8686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0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47960" y="2997360"/>
            <a:ext cx="38098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800" spc="-1" strike="noStrike">
              <a:solidFill>
                <a:srgbClr val="68686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868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400" spc="-1" strike="noStrike">
              <a:solidFill>
                <a:srgbClr val="68686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8686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0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75" name="Fußzeilenplatzhalter 4"/>
          <p:cNvSpPr/>
          <p:nvPr/>
        </p:nvSpPr>
        <p:spPr>
          <a:xfrm>
            <a:off x="685800" y="6453360"/>
            <a:ext cx="53341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oliennummernplatzhalter 5"/>
          <p:cNvSpPr/>
          <p:nvPr/>
        </p:nvSpPr>
        <p:spPr>
          <a:xfrm>
            <a:off x="6553080" y="6489720"/>
            <a:ext cx="19051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FB0E-B75A-400D-B23B-E3F0ABD95E2F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10:20:22Z</dcterms:created>
  <dc:creator>r31dzoe</dc:creator>
  <dc:description/>
  <dc:language>en-US</dc:language>
  <cp:lastModifiedBy>ru39pox</cp:lastModifiedBy>
  <dcterms:modified xsi:type="dcterms:W3CDTF">2019-07-18T11:25:10Z</dcterms:modified>
  <cp:revision>27</cp:revision>
  <dc:subject/>
  <dc:title>PowerPoint-Präsentation</dc:title>
</cp:coreProperties>
</file>