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6113-9407-4107-B645-6415C492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9DF01-8EB2-467C-8C71-0B01FF29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0811B-D341-4B3C-8054-F7AB5BA7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7EFA-72DC-4C26-A2AA-E65B2359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F5845-0FE2-4EF2-9954-37C0AB26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C011A-A2EC-4BAD-8DD5-16412BCF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CD261-671A-46BF-A10F-1F1CC771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582B4-8097-4819-83B0-F5FC7CE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8977B2-CBD4-4C1C-8085-27551619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05F16-7371-4603-A03C-B04893A9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189B1-D5FC-4D57-AB01-172ACC8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3B21-D58E-44D5-A9BD-783CB4DC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469F3-4EE3-4249-85C0-29305CB0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12570-6D19-4CB8-B677-E5D810AD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6E4CD-8237-4781-A55F-7545E339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DA81EF-2846-46C5-B71C-74137ED51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67FF7-9C54-46F4-91B2-E20871D3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24A99-A27C-4854-8A56-439C276E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CFE42-CB97-4F27-954D-AACC80E4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4D636-E933-49E1-9DB8-8288EA46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D7045-8F71-4235-895F-7FCD0B3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8EFFF-FC71-41F3-98A6-C7AD1262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BEFC7-7964-44EE-A096-AC89AF3D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413807-0F84-4241-AF08-22C0ADD3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B21B6-9836-44B3-9BAE-1EF6F4E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9DC65-8FB9-4E3A-96D0-FF2564A5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531CB-F077-46A7-A48D-706EA493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4ECC2-D085-46B3-B479-E00085C7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7C486-1D0D-407C-8D12-02A38800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078BE-DA8F-43D6-A18B-8E6895479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C458F-BF21-4803-B19B-5F9CC5830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9121F5-AA65-433E-AAF6-46550E12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2456F-BF73-4225-B64E-038BC38E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9F58-C208-4E7F-AA64-5F8DFE17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E661D-4EFD-42A4-9EA6-23DB8BD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3C966E-BE01-44EE-812B-C4B8000E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E85B58-98B8-4C64-B56C-8999595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A51FC1-FFF3-45AE-804B-E2E3DDBCC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39BB69-643B-4773-AC1C-070EEDD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FC57D-2749-409B-8FBF-5DC885F2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3785E-AE81-47D1-96EF-995FE611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8C0D47-DB9B-4082-B0D4-EC9EE117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5EBE7-BC54-45FB-87A1-A506B5F2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966732-E3EA-440B-A16F-DF7B844B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E924-A130-4D3D-A762-925A9B29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DC83FD-2508-4DAF-B0D5-D5794173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2C8CB-12C2-4491-896D-84550456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F7189F-0BF7-4278-BE87-64D8679B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078883-CE58-4243-9319-762C5837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B1C476-E7D7-4231-8C33-8C6840D4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EEE50C-C95B-4778-B4B8-1309AC12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9F801-AA4D-47D0-8004-9FD770F9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ECF94A-161E-40B3-A40C-19220013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CD3DF9-A2B4-4537-9718-AD2A08F1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FB5ECD-9035-4EFE-BA1B-D76C3F96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98B6-14EC-4B34-941C-EF041E5D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1A5AC2-1607-4418-985E-01A479DF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17C147-2B2E-4FC7-BF8D-A48D37CE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4AD707-3AE2-431A-826B-0FE90DCF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F925B9-04F2-4F2E-B966-68522810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C6D31-4068-4A23-B9BF-FF6AFE46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73AB8A-6A38-4630-85A4-A7FCA358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997AE5-4702-4D6D-B83C-E20B5DD2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6C4941-B230-4D40-AE85-81AAD299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4EFFDD-DCB7-4BD7-84E0-BF97F70C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B9B3A7-6DA8-475C-9A90-4D5BE83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91F8-57F6-4BFE-B87F-0B35DE1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EC7AB6-EA66-48EB-81B3-53DF74D4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6B517E-0795-4328-B7A2-6ACB489B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8B14A4-4751-4B9A-8777-E88BB96B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EEF8C3-0790-448D-98EC-A2B1964F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267996-45F9-4413-8A13-480C40B8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381C16-4B6A-4BC3-BF53-3165C526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9F0C80-8046-4534-92E5-A1526562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E058A6-65FD-4433-B847-C19FDAA3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2EBFAE8-6416-428C-83D7-202694C0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2813B6-24B4-4572-A2F1-8FB40163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56BA-7331-483A-A432-6C58B62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17E71E-DD30-4865-B0F1-001B7836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EDDAEE-4675-4CCE-B780-6C43BB3A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7F452-D1ED-4180-BE5B-F540ABEF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295B09-FA0C-4072-9F86-7D7F0D2E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A39419-821F-4304-88E2-1D3DEC3C5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AE86D8-05A2-41DB-B5E7-F0765991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C47B876-5CDD-49D2-B6F2-C11EAFEF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FAA8A2-3B60-484A-8421-C7807D8E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396FF1-91FB-459B-A8EA-494CF0E3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44259F-20D9-47B2-BAD1-283CE83E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4E69-A787-4658-9F56-BD987593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1709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EA1767-074A-4484-A2C6-3B8D66AE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F5A1E-265F-4C99-8077-BE1F8F1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C162B7-8CD3-42AF-82BA-20D0CCA7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FB073E-48E4-47DC-A200-A117B199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13C60E-600C-4E1D-AE96-E3E88DC1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9973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87905C-8B8A-4FA9-A3CB-3162DF2A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31380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41440" y="29973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009CE-4045-4802-957F-E3809888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D8FE-42BA-4F9F-9F16-928D02A418E1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6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47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48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422B-A60E-4431-A049-37C63E3C035F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9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9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7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8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4D4A-5EDF-4C71-80D2-65407DF4C048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dt" idx="9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39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0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53CA-DCF0-4EB0-86DC-C8183092B5E7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1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184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185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0F7A-36E8-4ADE-BB76-D29F1F14190C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30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31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6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BBA2-3F9C-4F47-932D-BDF9709D41E6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dt" idx="17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8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276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277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1505-2D76-413B-8680-DD82E45EDE68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dt" idx="20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ftr" idx="21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0" descr="E:\Temp\Signet_neu\PowerPoint-Folien\Hilfsdateien\Streifen-quer.jpg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E:\Temp\Signet_neu\JPEG_300dpi\RGB\uni_bwm.jpg"/>
          <p:cNvPicPr/>
          <p:nvPr/>
        </p:nvPicPr>
        <p:blipFill>
          <a:blip r:embed="rId3"/>
          <a:stretch/>
        </p:blipFill>
        <p:spPr>
          <a:xfrm>
            <a:off x="5651640" y="304920"/>
            <a:ext cx="3290760" cy="627120"/>
          </a:xfrm>
          <a:prstGeom prst="rect">
            <a:avLst/>
          </a:prstGeom>
          <a:ln w="0">
            <a:noFill/>
          </a:ln>
        </p:spPr>
      </p:pic>
      <p:pic>
        <p:nvPicPr>
          <p:cNvPr id="322" name="Grafik 4" descr=""/>
          <p:cNvPicPr/>
          <p:nvPr/>
        </p:nvPicPr>
        <p:blipFill>
          <a:blip r:embed="rId4"/>
          <a:stretch/>
        </p:blipFill>
        <p:spPr>
          <a:xfrm>
            <a:off x="201600" y="189000"/>
            <a:ext cx="2641680" cy="649080"/>
          </a:xfrm>
          <a:prstGeom prst="rect">
            <a:avLst/>
          </a:prstGeom>
          <a:ln w="0">
            <a:noFill/>
          </a:ln>
        </p:spPr>
      </p:pic>
      <p:sp>
        <p:nvSpPr>
          <p:cNvPr id="323" name="Textfeld 5"/>
          <p:cNvSpPr/>
          <p:nvPr/>
        </p:nvSpPr>
        <p:spPr>
          <a:xfrm>
            <a:off x="108000" y="836640"/>
            <a:ext cx="34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63696e"/>
                </a:solidFill>
                <a:latin typeface="Arial"/>
                <a:ea typeface="Arial"/>
              </a:rPr>
              <a:t>Gruppe Usable Security and Priv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8458200" y="6524640"/>
            <a:ext cx="166680" cy="333360"/>
          </a:xfrm>
          <a:prstGeom prst="rect">
            <a:avLst/>
          </a:prstGeom>
          <a:solidFill>
            <a:srgbClr val="f580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868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594360" indent="-22860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2" marL="914400" indent="-1828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3" marL="1280160" indent="-182880">
              <a:spcBef>
                <a:spcPts val="799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4" marL="1645920" indent="-182880">
              <a:spcBef>
                <a:spcPts val="799"/>
              </a:spcBef>
              <a:buClr>
                <a:srgbClr val="6868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5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6" marL="1645920" indent="-182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8686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2"/>
          </p:nvPr>
        </p:nvSpPr>
        <p:spPr>
          <a:xfrm>
            <a:off x="6553080" y="648936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aaabb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CEC4-7BEC-4B8D-BF8B-636024B23193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7130880" y="836280"/>
            <a:ext cx="190512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ftr" idx="24"/>
          </p:nvPr>
        </p:nvSpPr>
        <p:spPr>
          <a:xfrm>
            <a:off x="685440" y="6489360"/>
            <a:ext cx="57006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babbb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203004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68686d"/>
                </a:solidFill>
                <a:latin typeface="Arial"/>
              </a:rPr>
              <a:t>Titel</a:t>
            </a:r>
            <a:endParaRPr b="0" lang="en-US" sz="6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Redner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Ort, Datum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85800" y="299736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0" name="Fußzeilenplatzhalter 3"/>
          <p:cNvSpPr/>
          <p:nvPr/>
        </p:nvSpPr>
        <p:spPr>
          <a:xfrm>
            <a:off x="685800" y="6453360"/>
            <a:ext cx="57006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liennummernplatzhalter 4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AAF0-8AD3-43C3-A5FD-A7DE1A30A8FD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709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68686d"/>
                </a:solidFill>
                <a:latin typeface="Arial"/>
              </a:rPr>
              <a:t>Titel Folie</a:t>
            </a:r>
            <a:endParaRPr b="0" lang="en-US" sz="44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44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47960" y="2997360"/>
            <a:ext cx="3809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868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3200" spc="-1" strike="noStrike">
              <a:solidFill>
                <a:srgbClr val="68686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868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800" spc="-1" strike="noStrike">
              <a:solidFill>
                <a:srgbClr val="68686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868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68686d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8686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8686d"/>
                </a:solidFill>
                <a:latin typeface="Arial"/>
              </a:rPr>
              <a:t>Beispiel</a:t>
            </a:r>
            <a:endParaRPr b="0" lang="en-US" sz="2000" spc="-1" strike="noStrike">
              <a:solidFill>
                <a:srgbClr val="68686d"/>
              </a:solidFill>
              <a:latin typeface="Arial"/>
            </a:endParaRPr>
          </a:p>
        </p:txBody>
      </p:sp>
      <p:sp>
        <p:nvSpPr>
          <p:cNvPr id="375" name="Fußzeilenplatzhalter 4"/>
          <p:cNvSpPr/>
          <p:nvPr/>
        </p:nvSpPr>
        <p:spPr>
          <a:xfrm>
            <a:off x="685800" y="6453360"/>
            <a:ext cx="5334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babbbf"/>
                </a:solidFill>
                <a:latin typeface="Arial"/>
                <a:ea typeface="Arial"/>
              </a:rPr>
              <a:t>Redner: Ti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liennummernplatzhalter 5"/>
          <p:cNvSpPr/>
          <p:nvPr/>
        </p:nvSpPr>
        <p:spPr>
          <a:xfrm>
            <a:off x="6553080" y="648972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F275-2D79-45BA-BD0D-36208662C740}" type="slidenum">
              <a:rPr b="0" lang="de-DE" sz="1400" spc="-1" strike="noStrike">
                <a:solidFill>
                  <a:srgbClr val="aaabb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0:20:22Z</dcterms:created>
  <dc:creator>r31dzoe</dc:creator>
  <dc:description/>
  <dc:language>en-US</dc:language>
  <cp:lastModifiedBy>ru39pox</cp:lastModifiedBy>
  <dcterms:modified xsi:type="dcterms:W3CDTF">2019-07-18T11:25:10Z</dcterms:modified>
  <cp:revision>27</cp:revision>
  <dc:subject/>
  <dc:title>PowerPoint-Präsentation</dc:title>
</cp:coreProperties>
</file>