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78BA-3C4D-4913-9383-B255E701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C085-BFC6-4A0D-8842-D1A22B3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8A93-2AFA-4A36-870F-92B74B22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026F-3700-44F4-8331-0F794AD8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A8DAF-CD04-4733-B395-0B6C9B17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BDEB-0DC7-49BB-81DB-678B52E6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F9358-5C01-46E6-92DE-A317A76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123F9-51F7-4675-84E5-F236712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6BD90-A424-4AA0-A9B6-5B83586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8AAAE-3BB7-42B7-BBFF-CE62C5A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FD46B-D923-4D12-9866-6FCE616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272C-04E6-454B-B4D5-1889B29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07C24-CE16-4F25-B7CB-6D0342E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00BD1-8F2A-479F-8B5D-C89C7BE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F3A86-959F-48DE-93DE-E979B875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2A8B5-D2FE-4858-A01E-3DEFF03D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3498-5B29-47B5-BDF6-C73450ED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3D056-0FC8-4BCA-93F3-3893F0A9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82AD0-3540-4BDE-AFFE-73817DE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CF038-7938-427F-BB9C-C25D11F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09726-6B2B-41FB-93A7-B50750E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B47F0-0D10-4886-866C-B2DCF8EA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FEF5-BD0A-45AC-9054-AE4AFA3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E0CB-E5BA-4D76-8377-985A4605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B8B37-E8F0-42A7-9A19-E38404D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6F732-5998-497F-ABD0-81883A63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0606-BE5F-44FD-A20B-92491A1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B0535-26E6-4718-A95B-2D8FFD0D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173BE-81FC-45C0-B8F2-56949100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B78DE-D07F-4F62-8636-968EBC4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3EC92-2E2A-423E-9A8A-188B3D1A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3E990-9F15-412A-B5FC-E41A3E56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48F95-029A-40A9-B7AE-CEF6383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7399-C232-4BE3-AC81-7C4E40A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D97AC-11B2-42C1-8A9C-EA7997C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365AF-A821-4D79-9051-178545A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2453A-7AFA-4C5D-844A-F5A289D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45FBC-0113-43F7-A898-132213E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43B7C-5E3D-4C05-B4A6-0F58469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86D2C-65A9-4F56-8BE1-35EE867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A6723-FDC0-43D5-AF09-18DD66D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75C74-B6AF-4850-89E8-B10C8E64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0B68D-F34E-4CA8-B58E-D0E7220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557C7-6F78-42F1-B04C-174EB91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3A8D-2F3F-4315-B95A-C115270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0541D-454E-4C82-B3E4-5630F311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400C7-5400-4317-81E1-2968FFE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4C796-A85B-4BB7-A188-A15E056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2C086A-7054-4310-BC3F-B484846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26DC7-8076-4D82-B505-2AF8CB5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DDF04C-F92C-42BF-81E8-AB50292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5E557-6E79-4603-9B86-F208F45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01709-D83D-46C5-9002-4BBF80A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FD022-68C0-47A1-9452-55E32B1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922EA8-CAAD-4520-9C4D-635E9DAD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E9E6-A576-4E5E-A3FF-6A9875F5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C030A-290E-495F-97D2-403E0996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60D03-B6DA-4182-9633-3E8894DC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3BF8E8-EA56-426A-957A-20B4E960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3AADF9-1916-44F8-8047-5FE8E71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58E5D-6302-468D-B3A4-60745FA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48DAB-E9DA-4277-91A3-0984921A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9F04F1-CF87-4B8C-9C28-AA8A9BF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8B67D5-9086-4DA2-9EBE-6F6E4E5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CD17C-D410-4694-A9C1-6E566EC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20339-C8CE-4C1C-BCDC-9BE41B7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08E4-2202-4BEC-BF49-B2555F6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0829E-8241-48FB-AA6D-3686DCC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661D8-3839-45FB-99C9-10D0AFB8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8EF66-E021-46AE-B925-D7086123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2A883-A568-4E17-8021-E055B2B0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A04E39-361F-479B-B009-551E96E4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15AAAF-4389-4538-A68C-D0222FF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820EB-5F64-4CD9-847B-CBB99FA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CEF44-ADE6-46D5-80F2-F49B773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68C87-0630-43F7-B37A-3AA8475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89194D-98D6-44C4-9D9E-21B4E31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4640-FBED-4900-8A2F-9C430AB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88DCE6-16E8-437D-8EC6-DBDD933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64B28-ECE1-4182-BCE6-6DB5996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98A508-49BC-4113-BEF7-2C542041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C5375-CF5E-42C7-ADEB-5D568907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0F3BA-CBFE-4B34-B6F2-D6BA1C90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15ADD5-7310-4EA6-B110-CF579EF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5C291-BF4C-4D83-AB12-636293D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0D5CAF-D7BE-4740-B3F4-AA051E8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94EF2-4230-431B-A798-A8F5971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B1B257-909D-4E49-8CC0-8B7B396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34FE-B26E-41B9-8F3A-CBB4DC26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F2395B-D454-4A6B-870C-E54ED83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7C477-9FA2-48A9-B876-6D65C6A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6417D-9193-4269-B8E4-1DDC810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793EE-5363-4A0A-BE66-F214A43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1924A5-9127-48A7-842B-7B5AA68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F3188D-8FD1-4F4E-A346-B9556CE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FF1722-DEB2-4B80-8BAC-25C9A28D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BBA-B381-4752-B703-1710712163FE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6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86A-07D8-45AC-A817-C6BB55E4E28F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7E1-861A-40C8-BB7F-82D16D81938A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0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872-2876-4032-8095-9490996E286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1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1269-7BA6-46C0-9990-8DADB49503ED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1DE-8F86-4582-9C15-E752AAF9BAC5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7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8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76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BA57-3AAF-4550-B5BC-AA211721A939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0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1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2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5D1-8024-4FEE-AE03-59444466AA9B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68686d"/>
                </a:solidFill>
                <a:latin typeface="Arial"/>
              </a:rPr>
              <a:t>Titel</a:t>
            </a:r>
            <a:endParaRPr b="0" lang="en-US" sz="6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Redner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Ort, Datum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0" name="Fußzeilenplatzhalter 3"/>
          <p:cNvSpPr/>
          <p:nvPr/>
        </p:nvSpPr>
        <p:spPr>
          <a:xfrm>
            <a:off x="685800" y="6453360"/>
            <a:ext cx="570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liennummernplatzhalter 4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5814-905F-405D-93D2-7ACD2D612938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44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796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5" name="Fußzeilenplatzhalter 4"/>
          <p:cNvSpPr/>
          <p:nvPr/>
        </p:nvSpPr>
        <p:spPr>
          <a:xfrm>
            <a:off x="685800" y="6453360"/>
            <a:ext cx="5334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liennummernplatzhalter 5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11B8-B910-4D68-AB1E-2EE90195E926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0:20:22Z</dcterms:created>
  <dc:creator>r31dzoe</dc:creator>
  <dc:description/>
  <dc:language>en-US</dc:language>
  <cp:lastModifiedBy>ru39pox</cp:lastModifiedBy>
  <dcterms:modified xsi:type="dcterms:W3CDTF">2019-07-18T11:25:10Z</dcterms:modified>
  <cp:revision>27</cp:revision>
  <dc:subject/>
  <dc:title>PowerPoint-Präsentation</dc:title>
</cp:coreProperties>
</file>